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0C45-8FB3-49C9-8DBC-DA0EC890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BFB8-11ED-44D7-9024-54E7D478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CC3-1536-4A7E-A2C3-1E27B58A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9392-824A-4BB1-8E3B-7C9EFCDA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9D3-BF83-4E99-ABB1-27981839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515-C027-4787-9106-1BAF96FA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C89-F801-4891-A699-DDE8A80C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59E2-0FE1-4ECF-BDF1-0658734D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7FC0-4C80-4398-9EB6-B3280D8D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99F-5C65-4EF6-95E7-2D8284E6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3D27-8C05-49FC-831A-89CA3B1C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BD42-E6A5-4E9B-BC48-6F849B4B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DF9E-095B-4806-9D1D-5E9214674D24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Govern de les Illes Bal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5050"/>
                </a:solidFill>
                <a:latin typeface="Arial"/>
              </a:rPr>
              <a:t>XXè Aniversari de l’Estatut d’Autonomia</a:t>
            </a:r>
            <a:r>
              <a:rPr b="1" lang="ca-ES" sz="3200" spc="-1" strike="noStrike">
                <a:solidFill>
                  <a:srgbClr val="ff505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7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overn de les Illes Bal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03280" y="2708280"/>
            <a:ext cx="590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1360">
              <a:buClr>
                <a:srgbClr val="99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Territ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1360">
              <a:buClr>
                <a:srgbClr val="99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Instituc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1360">
              <a:buClr>
                <a:srgbClr val="99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Societat i Cu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1360">
              <a:buClr>
                <a:srgbClr val="99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Econom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1360">
              <a:buClr>
                <a:srgbClr val="99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Histo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5616720" cy="5616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58920" y="1557360"/>
            <a:ext cx="43927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ca-ES" sz="1400" spc="-1" strike="noStrike">
                <a:solidFill>
                  <a:srgbClr val="333399"/>
                </a:solidFill>
                <a:latin typeface="Arial"/>
              </a:rPr>
              <a:t>Les persones que formam part de les Illes Balears ocupam un territori que comprè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99"/>
                </a:solidFill>
                <a:latin typeface="Arial"/>
              </a:rPr>
              <a:t>Un espai físic format per illes i illo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99"/>
                </a:solidFill>
                <a:latin typeface="Arial"/>
              </a:rPr>
              <a:t>Un paisatge característic de cada una d'aquestes illes i illo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99"/>
                </a:solidFill>
                <a:latin typeface="Arial"/>
              </a:rPr>
              <a:t>Una demografia que correspon a la gent que vivim sempre en aquestes illes i també a la gent que ens visi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99"/>
                </a:solidFill>
                <a:latin typeface="Arial"/>
              </a:rPr>
              <a:t>Uns transports i comunicacions que feim servir per relacionar-nos amb la gent i els pobles d'aquí i els de fora d'aqu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99"/>
                </a:solidFill>
                <a:latin typeface="Arial"/>
              </a:rPr>
              <a:t>I una ordenació territorial que fa que les nostres illes siguin habitables i respectuoses amb el medi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0:34:32Z</dcterms:created>
  <dc:creator>Esteve Campins</dc:creator>
  <dc:description/>
  <dc:language>en-US</dc:language>
  <cp:lastModifiedBy>Esteve Campins</cp:lastModifiedBy>
  <dcterms:modified xsi:type="dcterms:W3CDTF">2006-12-27T07:58:06Z</dcterms:modified>
  <cp:revision>2</cp:revision>
  <dc:subject/>
  <dc:title>Diapositiva 1</dc:title>
</cp:coreProperties>
</file>